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EA33-69FA-47B3-B320-B1475C418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42F4-C68A-48A8-A073-4FE5B302A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8AEB-C965-4025-86D9-E8EF3F5AA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E6B3-AA9C-4AD5-818A-72734ACAB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31333-F2B7-4826-A1A2-E14024618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7E841-D016-486B-BFE1-87EDAFA62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48C40-1A8C-4B6A-BD8D-44BB8A20B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640BC-D80F-4313-96E0-FF1AC56A2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8CE47-B6BA-4CCA-B2A4-989F80E32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35339-D751-4DA6-8F40-BD942802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6CE30-33BB-4527-BF03-64AF8669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DCC4-E9DE-421F-A62E-6FC147F94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E4E77-A090-43FC-AD90-0AFB61C7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FBDC7-CEC1-40E2-93A8-DE344875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3AC4E-E3AD-480E-984C-5AD6D2842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D569A-F9F1-41E9-966A-1E8CC1172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135D2-0E9E-46C6-BF82-45914C8A4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86CF-C58D-41B9-97AC-01FA8AAB2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38F1-4390-4C47-ABBE-B7C28CD0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F7B0-E687-4D67-B15D-539F4230C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7D95-E30D-410A-A891-47385C7D9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A546-44BC-46B2-94F5-F2A714E1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47E3-2F4D-4044-A1B6-E1390581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3692-FE84-4E9C-9BA3-05FDEC9E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5DC87-BC43-477D-AB07-E31BF2BA62D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F8F22-A768-4BE8-89D5-678F998791F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грамма  развития-основной документ жизнедеятельности лагер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320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             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Г Лазарева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цент кафедры ППт и МО СКИРО ПК и ПРО, к.п.н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труктурные компоненты программ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бщая характеристика программы, включающая срок действия, название, согласованность с другими программами, глоссарий (при необходимости) и т.д.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бщая характеристика организации отдыха детей и их оздоровления по важнейшим показателям аналитических и  презентационных материалов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нализ выполнения программы предыдущего этапа (характеристика состояния дел в организации отдыха детей и их оздоровления) с конкретизацией имеющихся достижений и проблем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желаемый образ будущего организации отдыха детей и их оздоровления в предлагаемый период (видение, сценарии развития, критерии оценки качества и др.)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должени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нцепция развития организации отдыха детей и их оздоровления, включающая основные идеи, ценности, планируемые системные изменения (именно на основе концепции чаще всего пишется краткая версия программы)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ели и задачи развития организации отдыха детей и их оздоровления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ути достижения поставленных целей и задач, выраженные в подпрограммах, проектах, описании способов решения стратегических задач: конкретные цели и задачи, пути и способы достижения, ответственные и участники процесса, критерии, показатели, планируемые результаты, продукты, ресурсы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ценка необходимых финансовых ресурсо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ханизмы управления реализацией программ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информационная справка об организаци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лное название организации отдыха детей и их оздоровления, учредителя, основные этапы истории и интересов развития организаци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Характеристика организации с точки зрения ее типа, вида, краткая характеристика других участников рынка и сегодняшнего места организации в конкретной среде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оль организации в региональной ( муниципальной ) системе отдыха детей и их оздоровления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ажнейшие показатели (количество смен, количество отдохнувших детей, наличие госзадания), характеристика контингента отдыхающих детей и педагогического коллектива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родолжени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Характеристика социальных партнеров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сновные направления деятельности, в том числе и применяющиеся инновационные технологии, формы и методы работы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Характеристика методического и психолого-педагогического сопровождения, состояние системы управления, бюджета, материальной базы и инфраструктуры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езультаты деятельности за последние 3 – 5 лет. Потенциал развития организации (SWOT-анализ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нализ состояния и прогноз тенденций изменения социального заказа на услугу по отдыху детей и их оздоровлению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ртрет заинтересованных заказчиков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онкурентноспособност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родолжени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еализуемые инновационные, перспективные воспитательные практики, определяющие «уникальность» лагеря результаты их реализации, трансляции в системе образовани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Дополнительные характеристики (могут учитываться в описании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собенности местоположения и социокультурного окружения лагеря, историко-культурная, этнокультурная, конфессиональная специфика населения местности, включённость в историко-культурный контекст территории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личие и состав обучающихся с особыми образовательными потребностями, с ОВЗ, находящихся в трудной жизненной ситуаци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курентные преимущества организации отдыха детей и их оздоровлени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едагогические кадры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держание образовательной деятель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хнологии обучения и воспитания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фраструктура и материально-техническое обеспечение организаци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нешние связи, социальное партнерство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идж, информационная открытость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истема управления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(ИЗ положения о краевом конкурсе программ) Программы должны включа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аспорт программ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лемный анализ текущего состояния  развития организации  отдыха детей и их оздоровления и готовности к переходу на новый этап развития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основание необходимости разработки программы развития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нцептуальные идеи, принципы и цели развития учреждения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характеристику задач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ханизмы их реализации и ожидаемые результаты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новные направления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роки и этапы реализации программы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Продолжени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лановые мероприятия реализации программы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целевые индикаторы и показатели развития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гнозируемые результаты реализации программы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ценку результатов реализации программы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жидаемые риски при реализации программы развития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инансовое обоснование реализации программы развит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ритерии оценки програм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41360" indent="-44136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ктуальность (социальная значимость представленных материалов на современном этапе)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елостность, логичность, полнота изложения (определяется последовательность, структурное изложение, полнота содержания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)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ответствие программных элементов смен Указу Президента РФ от 9 ноября 2022 г. № 809 «Об утверждении Основ государственной политики по сохранению и укреплению традиционных российских духовно-нравственных ценностей»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нновационность (новаторский подход в сфере организации отдыха и оздоровления детей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истема дополнительного образова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долж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27320" indent="-42732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етодическая обоснованность (в соответствии с общедидактическими и общеметодическими принципами, методами)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чет возрастных, индивидуальных, этнокультурных особенностей детей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езультативность, степень социальной значимости (востребованность представленной Программы в обществе)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есурсное обеспечение (наличие и качество методического и информационного обеспечения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зиционирование Программы смены в социальных сетях (наличие ресурсов, на которых осуществляется медийное сопровождение смены)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озможность использования в практической деятельности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чёт в Программе и практическая реализация в течение смен модулей Российского движения детей и молодёжи «Движение Первых» (Дни Первых, марафоны Движения Первых, иные профильные активности)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следние изменения в нормативно-правовой базе в сфере организации детского отдых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-44604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Указ Президента Российской Федерации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т 7 мая 2024 г. № 309 «О национальных целях развития Российской Федерации на период до 2030 года и на перспективу до 2036 года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Федеральный закон «Об основных гарантиях прав ребёнка в Российской Федерации» от 24.07.98 № 124-ФЗ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атья 1-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понятие детского отдыха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ятие «организации отдыха детей и их оздоровления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атья 12.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Обеспечение прав детей на отдых и оздоровление 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редакция от 23. 11.2024 года - действует с 01.01.2025 года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 algn="just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Распоряжени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Министерства просвещения Российской Федерации от 29 августа 2024 г. N Р-160"Об объявлении 2025 года Годом детского отдыха в системе образования« (приурочено к 100-летию Артека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 algn="just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оект Приказа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инистерства просвещения Российской Федерации "Об утверждении федеральной программы воспитательной работы для организаций отдыха детей и их оздоровления и календарного плана воспитательной работы" (подготовлен Минпросвещения России 28.01.2025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Использованные источник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 algn="just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еонов В.В. Разработка программ для организаций отдыха детей и их оздоровления. Методические рекомендации.- М.: Федеральное государственное бюджетное образовательное учреждение дополнительного образования «Федеральный центр дополнительного образования и организации отдыха и оздоровления детей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 algn="just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етодические рекомендации по примерному содержанию образовательных программ, реализуемых в организациях, осуществляющих отдых и оздоровление детей (Письмо Минобрнауки №09-613 от 01.04.2014) (Опыт работы ВДЦ «Орленок» и «Океан»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 algn="just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пова И. Н. Развивающий детский отдых: методики и технологии организации. Методическое пособие для работников сферы управления системой отдыха и оздоровления детей, педагогов – воспитателей, вожатых // Москва «Русское слово», 2018 г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Благодарю за внимание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      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.Г.Лазарев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грамма лагеря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41360" indent="-44136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ограмма детского лагеря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— это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руктурированное описание педагогической идеи и ресурсов для её реализации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рганизационно-управленческий документ, занимающий место между концепцией деятельности (как описанием системы) и планом работы (как распределением конкретных действий во времени и в пространстве)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ажнейший стратегический документ, отражающий систему работы организации отдыха детей и их оздоровления и определяющий её цель, и задачи, концептуальные основы, направления деятельности, содержание воспитательно-образовательного, развивающего и оздоровительного процессов, ресурсное обеспечение и ожидаемые результат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ИЗ Закона «Об образовании»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«К компетенции образовательной организации в установленной сфере деятельности относятся: […] разработка и утверждение по согласованию с учредителем программы развития образовательной организации […]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атья 28.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Компетенция, права, обязанности и ответственность образовательной организации» Федерального закона от 29.12.2012 № 273-ФЗ «Об образовании в Российской Федерации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ПРОГРАММА РАЗВИТИЯ ОРГАНИЗАЦИИ ОТДЫХА ДЕТЕЙ И ИХ ОЗДОРОВЛ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это стратегический документ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тражающий системные, целостные изменения в организации, разработанный в соответствии с целями, задачами, ресурсами и сроками осуществления, содержащий комплекс мероприятий, обеспечивающих эффективное решение пробле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исьмо Минпросвещения России от 17.06.2024 N 03-877 "О направлении методических рекомендаций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" (вместе с "Методическими рекомендациями по разработке, утверждению и согласованию программ развития общеобразовательных организаций") https://rulaws.ru/acts/Pismo-Minprosvescheniya-Rossii-ot-17.06.2024-N-03-877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ходы к разработке программ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41360" indent="-441360" algn="just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есурсный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-при разработке программы авторы прежде всего проводят подробный анализ всех имеющихся ресурсов, будь то месторасположение лагеря, его инфраструктура, субкультура, материально-техническая баз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 algn="just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ограммный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-определяющим звеном является программа, педагогическая идея, вокруг которой объединяется группа единомышленник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 algn="just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дресный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-авторы-разработчики программы прежде всего анализируют тот контингент воспитанников, на которых будет направлена программ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 algn="just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офильный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-программы редко разрабатываются организациями отдыха детей и их оздоровления в одиночку. Как правило, привлекаются социальные партнер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Отличия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грамма развития -объектом воздействия является сама организ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грамма лагеря -не важно долгосрочная или краткосрочная, объектом являются дети и подростки, приезжающие на отдых и оздоровление в эту организацию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грамма развития организации является управленческим документом, который должен придать процессу изменений в деятельности организации целенаправленный характер устойчивого развити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уктура программы развития лагер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. Что мы хотим изменить? Что не устраивает в получаемых результатах деятельности? (Цель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2. Что мы хотим достичь и через какие изменения образовательной деятельности, образовательной среды? (Ключевая проектная идея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3. Что для этого у нас есть и что потребуется? (SWOT-анализ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4.Как мы это будем изменять? Что будем делать? (Предполагаемая управленческая модель и поэтапный план изменений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5. Как мы будем оценивать достижение поставленных целей? (Измеримые критерии и показатели диагностики новых образовательных результатов обучающихся, оценки деятельности педагога, реализации образовательной деятельности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6. Что может нам помешать в достижении целей? Как это можно предупредить? (Риски и мероприятия по их минимизации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7. Какие финансовые средства потребуются для реализации программы? (Финансовый план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9T18:03:19Z</dcterms:created>
  <dc:creator>User</dc:creator>
  <dc:description/>
  <dc:language>en-US</dc:language>
  <cp:lastModifiedBy>владимир</cp:lastModifiedBy>
  <dcterms:modified xsi:type="dcterms:W3CDTF">2025-02-07T10:45:00Z</dcterms:modified>
  <cp:revision>116</cp:revision>
  <dc:subject/>
  <dc:title>Роль педагогического сообщества в государственно-общественном управлении</dc:title>
</cp:coreProperties>
</file>