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085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488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0" y="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4278240" y="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0" y="1015524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3"/>
          </p:nvPr>
        </p:nvSpPr>
        <p:spPr>
          <a:xfrm>
            <a:off x="4278240" y="10154880"/>
            <a:ext cx="32479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55AC0-618B-4000-92C9-E80829A2BEF5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6"/>
          <p:cNvSpPr/>
          <p:nvPr/>
        </p:nvSpPr>
        <p:spPr>
          <a:xfrm>
            <a:off x="4278240" y="10155240"/>
            <a:ext cx="32479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13E78-40AF-44D9-A7F4-FAE664769B0F}" type="slidenum">
              <a:rPr b="0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4278240" y="10155240"/>
            <a:ext cx="3251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3C3E9-75DF-4C83-B995-55826CE9E3E1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F1D44-80D4-4329-8981-10854DFF5B69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278240" y="10155240"/>
            <a:ext cx="325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6169F-3954-437B-ABA3-E32851388C58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5FFAA-ADD0-4903-8E3D-87EA26D7D45A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B7305-7AAD-4710-9DCA-782744B6F0E7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1668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6"/>
          <p:cNvSpPr/>
          <p:nvPr/>
        </p:nvSpPr>
        <p:spPr>
          <a:xfrm>
            <a:off x="4278240" y="10155240"/>
            <a:ext cx="32479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3F00F-EA46-4D7F-9CB3-F083D618EDA5}" type="slidenum">
              <a:rPr b="0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4278240" y="10155240"/>
            <a:ext cx="3251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A9E43-BB81-4A20-A054-E449BFB416D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0EF75-B24F-4252-83D9-1E52BEE352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278240" y="10155240"/>
            <a:ext cx="325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DAD06-C4A6-46E2-9927-3275416EE8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BF2B6-431C-48A4-8F7A-D38C307EE2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327EE-E208-47A1-966F-D4F3F305EA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1668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6"/>
          <p:cNvSpPr/>
          <p:nvPr/>
        </p:nvSpPr>
        <p:spPr>
          <a:xfrm>
            <a:off x="4278240" y="10155240"/>
            <a:ext cx="32479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044A5-64D3-4DA7-8BD6-6640EB287053}" type="slidenum">
              <a:rPr b="0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4278240" y="10155240"/>
            <a:ext cx="3251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60D80-F265-4762-91D4-4EA71157DD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0A5F2-DCB9-4BAD-A8F7-F12ECA2F008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78240" y="10155240"/>
            <a:ext cx="325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5F1C3-B228-4BE2-B3FB-F00DDABBA70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2B5C6-8B0D-48DF-96F4-ED4D34A6878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022E9-EB4C-4D35-AB67-9D6DDAFC8D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1668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6"/>
          <p:cNvSpPr/>
          <p:nvPr/>
        </p:nvSpPr>
        <p:spPr>
          <a:xfrm>
            <a:off x="4278240" y="10155240"/>
            <a:ext cx="32479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1BA1F-1424-4B86-9C05-213720FB4683}" type="slidenum">
              <a:rPr b="0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278240" y="10155240"/>
            <a:ext cx="3251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2CD29-7AAD-4402-8150-A808F0D869CC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6E2E6-78CE-4C4B-A99D-50A1948B4644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278240" y="10155240"/>
            <a:ext cx="325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21FDD-2082-43A8-B576-ED049EBE7302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8E8BA-F8B7-4ED6-BD9C-987B570B28C3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EC062-A272-4C0A-89E8-1B387B003A8A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1668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6"/>
          <p:cNvSpPr/>
          <p:nvPr/>
        </p:nvSpPr>
        <p:spPr>
          <a:xfrm>
            <a:off x="4278240" y="10155240"/>
            <a:ext cx="32479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E2E43-8178-4F0A-BB3D-99183F978CFC}" type="slidenum">
              <a:rPr b="0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"/>
          <p:cNvSpPr/>
          <p:nvPr/>
        </p:nvSpPr>
        <p:spPr>
          <a:xfrm>
            <a:off x="4278240" y="10155240"/>
            <a:ext cx="3251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0E7AB-5513-44A7-8293-B4982CC3F9C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CED8D-59E1-4766-AB2D-0DE80E3AEBB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278240" y="10155240"/>
            <a:ext cx="325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5ACA9-6AE0-434E-8CA4-51484F55AF9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10409-F2F8-4E17-A5AC-E12B01EEEF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F4E8B-9305-488F-ACD8-1C422C0E8C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1668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6"/>
          <p:cNvSpPr/>
          <p:nvPr/>
        </p:nvSpPr>
        <p:spPr>
          <a:xfrm>
            <a:off x="4278240" y="10155240"/>
            <a:ext cx="32479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770AC-9A35-45AA-BFD9-F513A5374BD6}" type="slidenum">
              <a:rPr b="0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4278240" y="10155240"/>
            <a:ext cx="3251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C417F-F715-4991-886A-8D6343C85C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AC630-68FF-44B0-8D2D-265B5D9523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278240" y="10155240"/>
            <a:ext cx="325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1982C-9447-4131-A961-4B91E25CF32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DB398-2E9C-4278-B07D-A9CC6A2F1EB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DACC5-0CF5-4BAA-A686-9E1219E4313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1668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6"/>
          <p:cNvSpPr/>
          <p:nvPr/>
        </p:nvSpPr>
        <p:spPr>
          <a:xfrm>
            <a:off x="4278240" y="10155240"/>
            <a:ext cx="32479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CAA0C-FBA6-4256-A026-E3E4ABA8FB70}" type="slidenum">
              <a:rPr b="0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4278240" y="10155240"/>
            <a:ext cx="3251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06A0F-32A1-4EDA-B779-8D7C704DCD37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4278240" y="10155240"/>
            <a:ext cx="325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67643-3389-43CB-95D2-46E66524A6A9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4278240" y="10155240"/>
            <a:ext cx="325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BB0E4-3364-4257-A917-2DBF97A2FD0E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DD83C-7028-4DC1-9463-8A046C201BCE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D19F5-B4E9-4B41-882A-222DF82EA0C4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1668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D728-D24D-4F23-AFD3-35C4619FF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37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3744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57440"/>
            <a:ext cx="903744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EA8A-1D36-4071-AE25-91C886BA8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37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00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4320" y="1768320"/>
            <a:ext cx="44100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57440"/>
            <a:ext cx="44100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4320" y="4357440"/>
            <a:ext cx="44100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FA45-7D38-4EF8-9EA7-78D390073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37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0988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8960" y="1768320"/>
            <a:ext cx="290988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4640" y="1768320"/>
            <a:ext cx="290988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57440"/>
            <a:ext cx="290988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8960" y="4357440"/>
            <a:ext cx="290988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4640" y="4357440"/>
            <a:ext cx="290988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6C19-7F7A-4957-8894-14EE64CA5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39561-944B-49CE-BFE0-929EFE59E6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37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3744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8287-5953-4970-81A0-34FCAA7979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37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3744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6CEE7-9839-488F-8133-62587E651E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37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000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4320" y="1768320"/>
            <a:ext cx="441000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B4690-019E-44FF-9613-24555B6E2A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37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D52AF-F24E-4113-AC72-53AB94D809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288720"/>
            <a:ext cx="9037440" cy="59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CEA2-3789-469C-8702-6D011AAD46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37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00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4320" y="1768320"/>
            <a:ext cx="441000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57440"/>
            <a:ext cx="44100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A0242-856A-4CD8-AB1A-5B9C65648B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37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3744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B566-56DF-4B89-8A5F-11DD41E01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37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000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4320" y="1768320"/>
            <a:ext cx="44100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4320" y="4357440"/>
            <a:ext cx="44100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8A7C0-EF56-494D-88DC-B87204698B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37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00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4320" y="1768320"/>
            <a:ext cx="44100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57440"/>
            <a:ext cx="903744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75BA9-ADFE-493B-ACEE-0B97FBA8B3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37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3744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57440"/>
            <a:ext cx="903744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7ADED-1BE9-4859-9168-7007F50D38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37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00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4320" y="1768320"/>
            <a:ext cx="44100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57440"/>
            <a:ext cx="44100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4320" y="4357440"/>
            <a:ext cx="44100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CE624-74A3-458E-80A4-C5895058A0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37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0988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58960" y="1768320"/>
            <a:ext cx="290988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4640" y="1768320"/>
            <a:ext cx="290988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57440"/>
            <a:ext cx="290988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58960" y="4357440"/>
            <a:ext cx="290988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4640" y="4357440"/>
            <a:ext cx="290988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7C9A6-182D-4939-B8EB-C27DAD7F86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37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3744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2948-A840-4412-BEEC-CCF60350A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37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000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4320" y="1768320"/>
            <a:ext cx="441000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1E7A-453C-4818-982C-0D7866F3C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37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0A2A-1DBA-4A91-BF70-A6B1AC0F5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88720"/>
            <a:ext cx="9037440" cy="59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76AE-5C97-4783-A9E6-18D43427C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37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00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4320" y="1768320"/>
            <a:ext cx="441000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57440"/>
            <a:ext cx="44100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DA500-BF51-4E4C-BCCB-33AFBC53D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37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000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4320" y="1768320"/>
            <a:ext cx="44100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4320" y="4357440"/>
            <a:ext cx="44100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6BEA-ED54-455F-9467-305E41051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37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00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4320" y="1768320"/>
            <a:ext cx="44100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57440"/>
            <a:ext cx="903744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DCFA-4281-451B-A078-C67876020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37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3744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1480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656B0-E062-4541-B16E-BA60B1279D88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374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3744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1480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35731-AB6C-4C52-A699-96E393547E79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539640" y="2195640"/>
            <a:ext cx="918072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«Основные подходы к формированию программы развития организации отдыха и оздоровления дете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чества управления образовательной организацией: проблемы, риски, перспектив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4105440" y="5435640"/>
            <a:ext cx="5688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73c65"/>
                </a:solidFill>
                <a:latin typeface="Times New Roman"/>
              </a:rPr>
              <a:t>Дробот Александр Анатольевич,</a:t>
            </a:r>
            <a:r>
              <a:rPr b="1" lang="ru-RU" sz="2400" spc="-1" strike="noStrike">
                <a:solidFill>
                  <a:srgbClr val="073c65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73c65"/>
                </a:solidFill>
                <a:latin typeface="Times New Roman"/>
              </a:rPr>
              <a:t>доцент кафедры психолого-педагогических технологий и менеджмента в образовании СКИРО ПК и ПРО, кандидат педагогических наук, Заслуженный учитель Р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719280" y="2916360"/>
            <a:ext cx="900108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-9360" y="1258920"/>
            <a:ext cx="10090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ам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нормативная модель совместной рабо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ы людей по достижению определенной цели, рабоч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умент для организации текущей и перспективной деятельности образовательной организации. В конечном итоге программа есть модель, определяющая, какие действия, кто, когда, где, какими средствами должен выполнить, чтобы получить желаемые результа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оит в том, чтобы раскрыть суть решаемой проблемы, обозначить степень ее влияния на уровень качества образования, раскрыть причины возникновения проблемы и определить основные пути их устран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онкретизировать и структурировать общую проблему, обеспечивая тем самым возможность ее решения по частя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следует подчеркнуть, что анализ, это не просто рассуждение, он строится на контекстных данных – любых относящихся к делу фактах, как правило имеющих цифровое выраж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анчивается выводом, в котором определяются пути решения проблемы(основные направления деятельности/задач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1"/>
          <p:cNvSpPr/>
          <p:nvPr/>
        </p:nvSpPr>
        <p:spPr>
          <a:xfrm>
            <a:off x="144360" y="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но ориентированный анализ текущего состояния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719280" y="2916360"/>
            <a:ext cx="900108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1201680"/>
            <a:ext cx="9936000" cy="67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желаемый результат деятельности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гнутый в пределах некоторого интервала времен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уется  с указанием сроков исполнения, числовых показателей результатов и описанием путей их достижения (основных направлений деятельности/задач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ые показател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личественно измеримый показатель, отражающий социальный, экономический и (или) иной общественно значимый и понятный эффект от реализации цели. Целевыми показателями могут являться: проведение мероприятий, формирование документов, окончание какого-то вида работ, достижение показателей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ые показател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т основным направлениям деятельности, с указанием точных числовых значени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отдавать предпочтение по возможности показателям достигнутых результатов, а не показателям исходных ресурсов или организации процесса, которые зачастую более доступны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2232000" y="0"/>
            <a:ext cx="5038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евые показател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719280" y="2916360"/>
            <a:ext cx="900108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5840" y="1303200"/>
            <a:ext cx="10064880" cy="61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сама по себе никогда не может быть достигнут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ее следует представлять в виде систем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являются их конкретизацией и детализацией, подчинены и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текают из проблем, обозначенных в анализе и указываются при формулировке цели как пути ее достижения. Задачи решаются в ходе реализации системы мероприятий, поэтому при формулировке задачи необходимо проверить, сможем ли мы сформулировать к ней не менее трех мероприят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2001"/>
              </a:spcAft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могут расчленяются н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решению задач, т.е. выстраивается «дерево целей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 реализации задач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личественно измеримые итоги деятельности по выполнению зада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быть представлены по всем выделенным направлениям деятельности или поставленным задач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264960" y="196920"/>
            <a:ext cx="76485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Дерево целе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719280" y="2916360"/>
            <a:ext cx="900108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16000" y="2125800"/>
            <a:ext cx="964872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-график мероприят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уется в логике системы задач и содержание его разделов - это мероприятия по достижению показателей ожидаемых результатов реализации задач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направлению планируется не менее 3 мер/мероприятий, направленных на достижение целевых показателей и контрольных точ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лане-графике мероприяти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ются цели — соответствующие им задачи (соответствующие задачам направления деятельности) и к последним разрабатывается система мероприят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1895760" y="108000"/>
            <a:ext cx="53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-график мероприяти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719280" y="2916360"/>
            <a:ext cx="900108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1187280"/>
            <a:ext cx="99360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ы реализаци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включать следующи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ые бло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итуционально-правовой блок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исследовательский блок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-управленческий блок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-экономический блок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й блок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ный блок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ы реализации могут быть представлены в виде таблицы, в которой отражены управленческие мероприятия, проводимые высшим руководством ОО, руководителями структурных подразделений, органами общественного управления, обеспечивающие эффективную реализацию программы. Это могут быть заседания органов государственно-общественного управления, совещания при директоре, завуче, на которых рассматриваются различные аспекты реализации программы, принимаются управленческие решения и при подготовке к которым проводятся процедуры мониторинга, контроля, оценки, по итогам которых и принимаются управленческие решения, направленные на повышение качества реализации программы. Это могут быть так же обучающие мероприят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1"/>
          <p:cNvSpPr/>
          <p:nvPr/>
        </p:nvSpPr>
        <p:spPr>
          <a:xfrm>
            <a:off x="1368360" y="324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ханизмы реализ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216000" y="1332000"/>
            <a:ext cx="96487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Georgia"/>
              </a:rPr>
              <a:t>«Основные подходы к формированию программы развития организации отдыха и оздоровления дете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5219640" y="6300720"/>
            <a:ext cx="4213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нтактная информац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ел.: 8(8652) 99-77-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E-mail:kafedra_uprav@mail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41240" y="4284720"/>
            <a:ext cx="885672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Georgia"/>
              </a:rPr>
              <a:t>СПАСИБО ЗА ВНИМАНИЕ!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13:13:04Z</dcterms:created>
  <dc:creator/>
  <dc:description/>
  <dc:language>en-US</dc:language>
  <cp:lastModifiedBy>Александр</cp:lastModifiedBy>
  <dcterms:modified xsi:type="dcterms:W3CDTF">2025-02-06T03:54:30Z</dcterms:modified>
  <cp:revision>9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342</vt:lpwstr>
  </property>
</Properties>
</file>