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A3F-455C-4D1D-813F-54BFB68A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DFE-CB98-45DD-A7B3-5C7E454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937-E3EB-4E78-ABB9-71DED07D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695-B6AE-4BCC-8AD3-1F55598B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5449-C0D8-443C-AA75-845058F7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77BA-2DC5-4C49-9BEE-921B0475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B34D-E1EE-498B-B268-6D05164D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4649-8882-4D6E-A378-926930F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70FD-8FFC-4901-83DF-F59DEFC1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A7C1-5B7F-4365-BCE4-B54C36C3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5818-6E8C-4DEF-BA73-5DE80CF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4F5-2DC8-44D5-8967-B09EE590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EA7C-53DF-4E0B-9160-2FA1389E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6082-7CE4-470C-BBF9-BA38777B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9CCD-2115-4218-8212-AC824959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BDF0-0EC0-4485-948B-6BECB025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647F-0C47-4024-8AAD-76259DEE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D7B-19EB-4446-AA58-19260A6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9A4-F48B-4FD5-879E-CC52822B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973-66D9-424E-921D-B31732B2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925-1963-4EE8-AC40-F7635C2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928-39A9-4B8E-AFE7-F09D565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127-0998-4C67-94B9-16A6BF17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17E-F1AE-48D6-BA9B-881FB0D7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5295-88A9-4CBF-B885-08C491959D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D9CB-A390-4C11-B024-8A1C578492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подходы к организации летнего отдых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Г Лазарев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ент кафедры ППт и МО СКИРО ПК и ПРО, к.п.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ОГРАММА РАЗВИТИЯ ОРГАНИЗАЦИИ ОТДЫХА ДЕТЕЙ И ИХ ОЗДОР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 стратегический доку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тражающий системные, целостные изменения в организации, разработанный в соответствии с целями, задачами, ресурсами и сроками осуществления, содержащий комплекс мероприятий, обеспечивающих эффективное решение пробл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исьмо Минпросвещения России от 17.06.2024 N 03-877 "О направлении методических рекомендац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" (вместе с "Методическими рекомендациями по разработке, утверждению и согласованию программ развития общеобразовательных организаций") https://rulaws.ru/acts/Pismo-Minprosvescheniya-Rossii-ot-17.06.2024-N-03-877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ы к разработке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сурс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при разработке программы авторы прежде всего проводят подробный анализ всех имеющихся ресурсов, будь то месторасположение лагеря, его инфраструктура, субкультура, материально-техническая баз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грамм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определяющим звеном является программа, педагогическая идея, вокруг которой объединяется группа единомышлен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дрес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авторы-разработчики программы прежде всего анализируют тот контингент воспитанников, на которых будет направлена програм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филь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программы редко разрабатываются организациями отдыха детей и их оздоровления в одиночку. Как правило, привлекаются социальные партнер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развития -объектом воздействия является сама организ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лагеря -не важно долгосрочная или краткосрочная, объектом являются дети и подростки, приезжающие на отдых и оздоровление в эту организацию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развития организации является управленческим документом, который должен придать процессу изменений в деятельности организации целенаправленный характер устойчивого разви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а программы развития лагер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Что мы хотим изменить? Что не устраивает в получаемых результатах деятельности? (Цель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Что мы хотим достичь и через какие изменения образовательной деятельности, образовательной среды? (Ключевая проектная иде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Что для этого у нас есть и что потребуется? (SWOT-анализ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Как мы это будем изменять? Что будем делать? (Предполагаемая управленческая модель и поэтапный план изменений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Как мы будем оценивать достижение поставленных целей? (Измеримые критерии и показатели диагностики новых образовательных результатов обучающихся, оценки деятельности педагога, реализации образовательной деятельности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Что может нам помешать в достижении целей? Как это можно предупредить? (Риски и мероприятия по их минимизац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Какие финансовые средства потребуются для реализации программы? (Финансовый пла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ые компоненты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ая характеристика программы, включающая срок действия, название, согласованность с другими программами, глоссарий (при необходимости) и т.д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ая характеристика организации отдыха детей и их оздоровления по важнейшим показателям аналитических и  презентационных материалов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лиз выполнения программы предыдущего этапа (характеристика состояния дел в организации отдыха детей и их оздоровления) с конкретизацией имеющихся достижений и проблем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лаемый образ будущего организации отдыха детей и их оздоровления в предлагаемый период (видение, сценарии развития, критерии оценки качества и др.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олж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цепция развития организации отдыха детей и их оздоровления, включающая основные идеи, ценности, планируемые системные изменения (именно на основе концепции чаще всего пишется краткая версия программы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и и задачи развития организации отдыха детей и их оздоровлен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ти достижения поставленных целей и задач, выраженные в подпрограммах, проектах, описании способов решения стратегических задач: конкретные цели и задачи, пути и способы достижения, ответственные и участники процесса, критерии, показатели, планируемые результаты, продукты, ресурсы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ценка необходимых финансовых ресурс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ханизмы управления реализацией програм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формационная справка об организ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ное название организации отдыха детей и их оздоровления, учредителя, основные этапы истории и интересов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арактеристика организации с точки зрения ее типа, вида, краткая характеристика других участников рынка и сегодняшнего места организации в конкретной сред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ль организации в региональной ( муниципальной ) системе отдыха детей и их оздоровл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ажнейшие показатели (количество смен, количество отдохнувших детей, наличие госзадания), характеристика контингента отдыхающих детей и педагогического коллектив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дол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истика социальных партнеров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ные направления деятельности, в том числе и применяющиеся инновационные технологии, формы и методы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истика методического и психолого-педагогического сопровождения, состояние системы управления, бюджета, материальной базы и инфраструктур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ы деятельности за последние 3 – 5 лет. Потенциал развития организации (SWOT-анализ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лиз состояния и прогноз тенденций изменения социального заказа на услугу по отдыху детей и их оздоровлен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трет заинтересованных заказчиков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курентноспособ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дол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изуемые инновационные, перспективные воспитательные практики, определяющие «уникальность» лагеря результаты их реализации, трансляции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ополнительные характеристики (могут учитываться в описании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обенности местоположения и социокультурного окружения лагеря, историко-культурная, этнокультурная, конфессиональная специфика населения местности, включённость в историко-культурный контекст территори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личие и состав обучающихся с особыми образовательными потребностями, с ОВЗ, находящихся в трудной жизненной ситуац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ледние изменения в нормативно-правовой базе в сфере организации детского отдых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 algn="just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споряжение Минпросвещения Росси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 28.11.2019 N Р-121 (ред. от 26.04.2021) "Об утверждении ведомственной целевой программы "Развитие сферы отдыха и оздоровления детей» по 2025 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каз Президента Российской Федераци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 7 мая 2024 г. № 309 «О национальных целях развития Российской Федерации на период до 2030 года и на перспективу до 2036 года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деральный закон «Об основных гарантиях прав ребёнка в Российской Федерации» от 24.07.98 № 124-Ф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атья 1-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онятие детского отдыха, Понятие «организации отдыха детей и их оздоров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атья 12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беспечение прав детей на отдых и оздоровление 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едакция от 23. 11.2024 года - действует с 01.01.2025 год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 algn="just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споряж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Министерства просвещения РФ от 29 августа 2024 г. N Р-160"Об объявлении 2025 года Годом детского отдыха в системе образования« (приурочено к 100-летию Арте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 algn="just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каз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инистерства просвещения РФ  от 17 марта 2025 г. № 209 "Об утверждении федеральной программы воспитательной работы для организаций отдыха детей и их оздоровления и календарного плана воспитательной работы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курентные преимущества организации отдыха детей и их оздоровл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дагогические кадры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е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и обучения и воспита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раструктура и материально-техническое обеспечение организ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шние связи, социальное партнерст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идж, информационная открыт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управл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ИЗ положения о краевом конкурсе программ) Программы должны включ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спорт програм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ный анализ текущего состояния  развития организации  отдыха детей и их оздоровления и готовности к переходу на новый этап развит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снование необходимости разработки программы развит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цептуальные идеи, принципы и цели развития учрежден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арактеристику задач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ханизмы их реализации и ожидаемые результаты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е направл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оки и этапы реализации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родол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овые мероприятия реализации программы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евые индикаторы и показатели развити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уемые результаты реализации программы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у результатов реализации программ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жидаемые риски при реализации программы развит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нансовое обоснование реализации программы разви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итерии оценки програм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туальность (социальная значимость представленных материалов на современном этапе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остность, логичность, полнота изложения (определяется последовательность, структурное изложение, полнота содерж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ответствие программных элементов смен Указу Президента РФ от 9 ноября 2022 г. № 809 «Об утверждении Основ государственной политики по сохранению и укреплению традиционных российских духовно-нравственных ценностей»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новационность (новаторский подход в сфере организации отдыха и оздоровления детей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дополнительного образ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одическая обоснованность (в соответствии с общедидактическими и общеметодическими принципами, методами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возрастных, индивидуальных, этнокультурных особенностей дете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ивность, степень социальной значимости (востребованность представленной Программы в обществе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сурсное обеспечение (наличие и качество методического и информационного обеспечен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зиционирование Программы смены в социальных сетях (наличие ресурсов, на которых осуществляется медийное сопровождение смены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можность использования в практическ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ёт в Программе и практическая реализация в течение смен модулей Российского движения детей и молодёжи «Движение Первых» (Дни Первых, марафоны Движения Первых, иные профильные активности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спользованные источни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онов В.В. Разработка программ для организаций отдыха детей и их оздоровления. Методические рекомендации.- М.: Федеральное государственное бюджетное образовательное учреждение дополнительного образования «Федеральный центр дополнительного образования и организации отдыха и оздоровления детей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одические рекомендации по примерному содержанию образовательных программ, реализуемых в организациях, осуществляющих отдых и оздоровление детей (Письмо Минобрнауки №09-613 от 01.04.2014) (Опыт работы ВДЦ «Орленок» и «Океан»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пова И. Н. Развивающий детский отдых: методики и технологии организации. Методическое пособие для работников сферы управления системой отдыха и оздоровления детей, педагогов – воспитателей, вожатых // Москва «Русское слово», 2018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и задачи ведомственн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величение численности детей, в том числе находящихся в трудной жизненной ситуации, направленных в организации отдыха детей и их оздоровления, до 7,2 млн. человек в 2025 го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ка нормативно-правовых акт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ернизация инфраструктуры организаций отдыха детей и их оздоров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ние новых мест для отдыха детей и их оздоровления с использованием механизма государственно-частного партнерст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жегодный мониторинг организации отдыха и оздоровления дете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оложительные тенден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единообразия и утверждение принципа вариативности в организации летнего отдыха детей и подрост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влечения государственно-частного партнёрства, проектирования авторских лагерей и разработки программ авторских см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тие сети профильных детских цент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ление связей между общеобразовательной организацией  и летними детскими центрами, социальными партнёр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ицательные тенденц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достаточность средств на содержание детских оздоровительных лагерей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ревшая материально-техническая баз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ительный рост эксплуатационных расходов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утствие налоговых льгот на имущество и землепольз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тиворечия между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оответствием традиционных форм организации детского отдыха и новыми потребностями и ожиданиями детей, а также их родителей (законных представителей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ктивной потребностью развития неформального общения, организаций досуга с использованием зрелищных мероприятий на основе новых технологий, в том числе информационных и недостаточной разработанностью педагогического обеспечения такой работ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стью внедрения инновационных процессов в организацию работы детского лагеря и недостаточной подготовленностью педагогических кад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ременные треб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а лагер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огообразие различных форм дополнительного образования в сфере летнего детского отдыха (детский центр отдыха и оздоровления детей и подростков, база детского отдыха, летний дом детского отдыха, экологическая площадка, дача, детский лагерь санаторного типа, летняя школа здоровья, туризма, лидеров 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доровьесберегающие технолог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значимые дополнительные общеобразовательные програм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ографический, культурный потенциал регион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ая деятельность с социальными партнёрами и родителя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грамма лагер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грамма детского лагер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это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ированное описание педагогической идеи и ресурсов для её реализаци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онно-управленческий документ, занимающий место между концепцией деятельности (как описанием системы) и планом работы (как распределением конкретных действий во времени и в пространстве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ажнейший стратегический документ, отражающий систему работы организации отдыха детей и их оздоровления и определяющий её цель, и задачи, концептуальные основы, направления деятельности, содержание воспитательно-образовательного, развивающего и оздоровительного процессов, ресурсное обеспечение и ожидаемые результа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З Закона «Об образовании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«К компетенции образовательной организации в установленной сфере деятельности относятся: […] разработка и утверждение по согласованию с учредителем программы развития образовательной организации […]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тья 28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ция, права, обязанности и ответственность образовательной организации» Федерального закона от 29.12.2012 № 273-ФЗ «Об образовании в 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8:03:19Z</dcterms:created>
  <dc:creator>User</dc:creator>
  <dc:description/>
  <dc:language>en-US</dc:language>
  <cp:lastModifiedBy>Лазарева </cp:lastModifiedBy>
  <dcterms:modified xsi:type="dcterms:W3CDTF">2025-05-19T08:50:09Z</dcterms:modified>
  <cp:revision>124</cp:revision>
  <dc:subject/>
  <dc:title>Роль педагогического сообщества в государственно-общественном управлении</dc:title>
</cp:coreProperties>
</file>